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AF4-ED36-4E8E-A412-F85DAF6E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61E-6ED2-4BA5-A699-1E20E2F4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35D-831E-4191-8D95-BE352F76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9EC-C879-40D4-80EC-0545122E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09D-A111-4A79-A3C2-B75F4668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90F-5060-4416-BEA7-F1C049DF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38CD-C0E1-4D1E-9EF7-EAA5D2FE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6BD-2F2D-415E-91B4-FAB0E964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32C-DE8E-46A6-80C1-D9A2D5C4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840-E71F-43BB-9EF7-82C5555A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AE5-5D60-4948-962C-5908BDFB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E9B-792D-4375-AF4F-7525BC4C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6078-FDC6-4A2B-9B39-1E63F825BB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5.xml"/><Relationship Id="rId9" Type="http://schemas.openxmlformats.org/officeDocument/2006/relationships/slide" Target="slide25.xml"/><Relationship Id="rId10" Type="http://schemas.openxmlformats.org/officeDocument/2006/relationships/slide" Target="slide25.xml"/><Relationship Id="rId11" Type="http://schemas.openxmlformats.org/officeDocument/2006/relationships/slide" Target="slide29.xml"/><Relationship Id="rId12" Type="http://schemas.openxmlformats.org/officeDocument/2006/relationships/slide" Target="slide29.xml"/><Relationship Id="rId13" Type="http://schemas.openxmlformats.org/officeDocument/2006/relationships/slide" Target="slide29.xml"/><Relationship Id="rId14" Type="http://schemas.openxmlformats.org/officeDocument/2006/relationships/slide" Target="slide29.xml"/><Relationship Id="rId15" Type="http://schemas.openxmlformats.org/officeDocument/2006/relationships/hyperlink" Target="file:///&#30446;&#24405;.ppt" TargetMode="External"/><Relationship Id="rId16" Type="http://schemas.openxmlformats.org/officeDocument/2006/relationships/audio" Target="../media/projctor.wav"/><Relationship Id="rId1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章   文件操作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981080"/>
            <a:ext cx="800100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摘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Wingdings"/>
                <a:hlinkClick r:id="rId1" action="ppaction://hlinksldjump"/>
              </a:rPr>
              <a:t>1.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使用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CFile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类进行文件读写、删除、改名及访问文件属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2. 使用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CStdioFile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类操作文本文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8" action="ppaction://hlinksldjump"/>
              </a:rPr>
              <a:t>3. 使用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CFileFind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类查找文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4.了解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windows API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的文件操作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4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16400" y="6095880"/>
            <a:ext cx="607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返回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6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定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040" y="858960"/>
            <a:ext cx="83217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virtual LONG Seek(LONG lOff, UINT nFrom);     throw(CFileExcep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值：如果要求的位置合法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从文件开始的字节偏移量。否则值未定义，并产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Excepti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lO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针移动的字节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nFr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针移动的参照点，有三种取值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File::begin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从文件开始，把指针向后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f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File::current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从当前位置开始，把指针向后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f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File::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从文件尾开始，把指针向后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f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字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File 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LONG lOffset = 1000, lActu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lActual = cfile.Seek(lOffset,CFile::beg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定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040" y="85896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void SeekToBegin( ); throw(CFileExcept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kToBeg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文件指针指向文件开始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DWORD SeekToEnd( ); throw( CFileException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kToEn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文件指针指向文件逻辑尾部，返回值为文件长度（字节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：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已打开文件，且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（定义见上例）为记录，下面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读取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Reco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定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914400"/>
            <a:ext cx="8321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 GetData(CFile  f,  int nRec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s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Reco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记录在文件中的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set = (nRecord – 1) * sizeof(STUD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指针移到文件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.SeekToBegi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当前位置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.Seek(offset, CFile::curr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取记录信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.Read(s, sizeof(STUDE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定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040" y="858960"/>
            <a:ext cx="832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virual DWORD GetPosition()const ;throw(CFileExcept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函数返回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的无符号整型数，用于标识当前文件指针相对于文件头的偏移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：使用该函数求文件的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WORD GetFileLength(CFile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f.SeekToEn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return f.GetPositio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状态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858960"/>
            <a:ext cx="88394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）（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virtual DWORD GetLength() const; throws (CFileException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函数没有参数，直接返回文件以字节计的长度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GetFileNam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得文件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GetFileTitl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得文件标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GetFilePat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得文件路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BOOL GetStatus(CFileStatus  &amp; rStatus) cons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指定文件的状态信息成功获取，该函数的返回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否则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rStat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用于返回文件的信息。这里使用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Stat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来接收状态信息。以下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Stat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的定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状态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152280" y="858960"/>
            <a:ext cx="9296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uct CFile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  m_ctime;       /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创建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  m_mtime;     /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最后一次修改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ime m_atime;       /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后一次访问文件并读取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ONG m_size;          /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逻辑长度，以字节数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YTE m_attribute;             /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属性字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/ Window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字符集表示的全文件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CHAR m_szFullName[MAX_PATH]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3640" y="550692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attribu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表述文件属性 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的属性 ，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状态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85896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num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rmal=0x00,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/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adOnly=0x01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/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只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idden=0x02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/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隐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ystem=0x04,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/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系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olume=0x08,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//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卷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irectory=0x10,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/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rchive=0x20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/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归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状态函数例题（判断文件是否只读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95280"/>
            <a:ext cx="7924680" cy="4041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IsReadOnly(CFile 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Statu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注意：函数的参数为引用不是指针，所以不需要用取地址符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.GetStatus(f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fs. m_attribute &amp; CFile:: readOnly ==  fs. m_attribu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  CFil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静态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038480"/>
            <a:ext cx="6705720" cy="3020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oid SetReadOnly(CString strFile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FileStat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File::GetStatus(strFilename, f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s. m_attribute  |=  CFile:: readOnl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File::SetStatus(strFilename, f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760" y="762120"/>
            <a:ext cx="88869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 GetStatu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etStatu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Stat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，用于取得指定文件的状态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Static BOOL PASCAL GetStatus(LPCSTR lpszFileName, CFileStatus &amp; rStatu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LpszFile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文件路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为绝对路径或为相对路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rStat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用于返回文件的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Stat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，用于设置指定文件的状态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Static BOOL PASCAL SetStatus(LPCSTR lpszFileName, const CFileStatus &amp; rStatu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：设置文件为只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  CFil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静态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760" y="762120"/>
            <a:ext cx="88869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用于删除指定的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static void PASCAL Remov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LPCTSTR lpszFileNam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; throw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CFileException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lpszFile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表示所要删除文件的路径字符串。路径可为相对或绝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此静态函数删除由路径指定的文件，但不可移去一个目录。如果相关联的文件打开或文件不可移去，则函数产生一个异常。这个函数等价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：删除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 strFileName =″d:\\bak\\test.dat″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File::Remove(strFile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.1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文件操作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Fi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F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类进行文件读写、删除、改名及访问文件属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6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  CFil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的静态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760" y="762120"/>
            <a:ext cx="88869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用于更改指定文件的文件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static void PASCAL Rename(LPCTSTR lpszOldName, LPCTSTR lpszNewName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throw (CFleExcep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lpszOld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路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lpszNew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新路径。此函数用于改名一个指定文件。注意目录不可改变，这个函数等价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：更改文件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strSource = “d:\\bak\\test.txt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String strTarget = “d:\\bak\\test1.txt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File::Rename(strSource, strTarg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.2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文本文件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StdioFi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StdioF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类进行文件读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6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adStr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的定义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OOL ReadStrin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String&amp; rStrin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    th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FileExceptio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值：返回一个布尔型值，当无数据可读时，返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否则返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rStr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是一个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象的引用，当函数返回时，该对象包含了所读取的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此成员函数用换行符将文本文件分为若干行，然后将文本以行为单位读出到参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Str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读出的数据将忽略回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行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dioFile::ReadSt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riteStr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的定义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virtual void WriteStrin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PCTSTR lpsz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throw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FileExceptio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lps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指定一个指向存放了以空字符结尾的文本字符串的缓冲区的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：此成员函数将一个缓冲区中的数据写入文件，并且参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ps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所有换行符都被转换成一个硬回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行符对写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StdioFile::WriteSt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：拷贝文本文件的专用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85800"/>
            <a:ext cx="8991720" cy="84870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opy(CString strSource, CString str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dioFile fSource, fTarg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 (!fSource.Open(strSource, CFile::modeRead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“Open Source File Fail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 (!fTarget.Open(strTarget, CFile::modeCreate | CFile::modeWrite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“Create Target File Fail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 (fSource.ReadString(strTemp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注意：加入回车符使生成的文件与原文件一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Target.WriteString(strTemp + ‘\n’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Source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Target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3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文件查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FileFin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类进行文件查找文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6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OOL FindFile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PCTSTR pstrName = NULL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DWORD dwUnused = 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值：如果成功，则返回真值，否则为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pstrNa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指向待找文件名字符串，可包含星号，如果不填，则查找当前目录下的所有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dwUnus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为保留参数，必须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不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调用此函数只是打开一个文件查找，并未开始文件查找，所以必须在调用至少一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indNextFi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后，方可调用取得文件属性的函数，例如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etLeng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）。但如果打开失败，再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indNextFi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则会出错。所以应检查本函数的返回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ndFil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：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OOL FindNextFil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值：如果还有文件，则返回真值；如果为最后一个文件，则为假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调用此函数是检查是否还有文件，所以可以作为循环标志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ndNextFil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：取得某目录下所有文件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85800"/>
            <a:ext cx="8991720" cy="150278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GetFilePath(CString strPath, CStringList * pstrNameL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Fin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f;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定义一个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Find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Fla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!ff.FindFile(strPath))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打开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Path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为目标的文件查询，并检查调用是否成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 (ff.FindNextFile())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查找下个文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ff.IsDots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ff.IsDirectory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str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 li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Temp = ff.GetFilePath();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取道目录的全路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strTemp.Right(1) != "\\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Temp += "\\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ie = strPath.ReverseFind('\\'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Temp += strPath.Right(strPathName.GetLength() - lie - 1);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生成路径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FilePath(strTemp, pstrNameList);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递归调用函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strNameList-&gt;AddTail(ff.GetFilePath());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加入文件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!ff.IsDots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ff.IsDirectory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str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Temp = ff.GetFilePath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strTemp.Right(1) != "\\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Temp += "\\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Temp += GetFileName(strPat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FilePath(strTemp, pstrNameLi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strNameList-&gt;AddTail(ff.GetFilePath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f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.4   WINDOW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文件操作简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2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文件操作函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6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文件打开函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BOOL Open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LPCTSTR lpszFileName,  UINT nOpenFlags,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CFileException* pError = NULL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lpszFileName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欲打开的文件名，文件名可以包含路径和文件名两部分。如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:\\bak\\test.txt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如果此字符串不包含文件路径，如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est.bak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系统默认为当前路径，即生成的可执行文件所在目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nOpenFlag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用于设置访问模式，指定当打开文件时进行的动作，可以将以下所列模式用按位或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|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操作符连接起来。至少应有一个访问模式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deCre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可选的。以下是常用参数列表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::modeCre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调用构造函数构造一个新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::modeRead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文件仅供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::modeReadWri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文件供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::modeWri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 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文件仅供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::typeTe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文本文件模式（只能用在子类中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::typeBinar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设置二进制文件模式（只能用在子类中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 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pError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一个异常类的指针，可通过该类和函数的返回值来确定函数是否调用成功，如下表所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打开与关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INSHELLAPI int WINAP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HFileOperatio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PSHFILEOPSTRUCT lpFileOp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：用于添加，删除，改名，移动等文件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值：调用成功则返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lpFileO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FILEOPSTRUC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的指针，本结构存储文件操作的信息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很多系统结构都在定义时同时定义了指针类型，指针结构名以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P”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名构成，如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PSHFILEOPSTRUC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FILEOPSTRUC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请注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FILEOPSTRUC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的定义方法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函数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HFile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HFILEOPSTRUC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构的定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typedef struct _SHFILEOPSTRUCT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WND         hw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UINT         wFun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LPCSTR       pFrom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LPCSTR       pT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FILEOP_FLAGS fFlag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BOOL         fAnyOperationsAborte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LPVOID       hNameMapping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LPCSTR       lpszProgressTitl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} SHFILEOPSTRUCT, FAR *LPSHFILEOPSTRUC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hwn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用于显示文件操作信息窗体的句柄，一般填写显示信息窗体的成员变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_hWn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若不需要显示信息，也可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wFun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标识操作类型。使用以下四个宏定义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FO_COPY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表示拷贝，从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From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拷贝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To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FO_DELETE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表示删除，删除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From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文件（参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To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忽略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FO_MOVE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表示移动，从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From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移动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To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FO_RENAME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表示改名，把文件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From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改名为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pTo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pFro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为原文件的文件及路径名。这个字符串必须以双空字符结尾， 例如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盘根目录下的文件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.tx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在此应表示为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:\\a.txt\0\0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对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Strin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类型的变量加一个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\0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即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pT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为目标文件的文件名，在参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wFun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_DELET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可忽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fFlag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为控制文件操作的标志，一共有十几个，他们之间可通过来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|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连接，在这里只介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常用的值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F_NOCONFIRMATIO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于一切信息提示框都按确定处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F_SILEN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显示进度对话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F_SIMPLEPROGRES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显示一个不显示文件名的简单的进度对话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通过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F_NOCONFIRMATIO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F_SILEN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设定，我们就可以在后台默默地处理拷贝删除操作。而设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F_SIMPLEPROGRES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将显示进度对话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fAnyOperationsAborte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hNameMapping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主要用于处理多文件的情况。此处不再详细介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lpszProgressTitl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当设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F_SIMPLEPROGRES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时，该参数为进度对话框的标题，若没有设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OF_SIMPLEPROGRES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则忽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当参数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pFro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pT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包括路径时，函数默认当前系统路径，即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GetCurrentDirector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）函数取得的路径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：拷贝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685800"/>
            <a:ext cx="8991720" cy="5893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opy(CString strSource, CString str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Find   f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HFILEOPSTRUC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p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声明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HFILEOPSTRUC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mset(&amp;fop, 0x00, sizeof(SHFILEOPSTRUCT)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置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HFILEOPSTRUC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!ff.FindFile(strSource))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查找文件是否存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f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Source += '\0'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为双空字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p.hwnd =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p.pFrom = strSourc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p.pTo = strTarg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p.wFunc = FO_COP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p.fFlags = FOF_SILENT | FOF_NOCONFIRMA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!::SHFileOperation(&amp;fop);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调用函数并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定义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WINSHELLAPI DWORD WINAPI SHGetFileInfo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LPCTSTR pszPath,  DWORD dwFileAttributes,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SHFILEINFO FAR *psf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UINT cbFileInfo,    UINT uFlag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参数说明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pszPat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文件路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dwFileAttribute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文件属性标志，一般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psf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 文件信息结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HFILEINFO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指针，用于存储该函数返回的文件信息。定义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typedef struct _SHFILE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HICON hIcon;       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文件图标的句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int   iIcon;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文件图标在系统图标列表中的下标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DWORD dwAttributes;          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文件属性数组，一般忽略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char  szDisplayName[MAX_PATH];   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char  szTypeName[80];         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文件类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} SHFILEINF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函数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GetFileInf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cbFileInf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文件信息结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FILEINF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长度，可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取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UFlag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  参数标志。该函数提供了很多文件参数，在这里只介绍几个常用的。注意这里的参数可以联合使用，之间用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符号连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HGFI_DISPLAYNA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返回文件名信息，该信息将被拷贝到文件信息结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FILEINF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zDisplayNam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HGFI_LARGEIC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文件的大图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HGFI_SMALLIC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文件的小图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HGFI_SYSICONINDE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返回文件的图标在系统图标列表中的下标，该信息将被设置到文件信息结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FILEINF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Ic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HGFI_TYPENA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返回文件类型信息，该信息将被拷贝到文件信息结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FILEINF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zTypeNa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函数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GetFileInf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：在某位置绘制某文件的图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85800"/>
            <a:ext cx="8991720" cy="4041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DrawFileIcon(CDC *pDC,  CPoint pt, CString strFile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HFILEINFO    sfi;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文件信息结构变量用于存放函数调用的结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ImageList        imageList;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用于取得系统的图标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IAMGELIST    hSysImagList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用于存放系统图标列表句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SysImagList=(HIAMGELIST)::SHGetFileInfo(strFilename, 0, &amp;sfi, sizeof(SHFILEINFO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HGFI_SYSICONINDEX | SHGFI_SMALLICON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mageList.Attach(hSysImageList);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系统图标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mageList.Draw(pDC, sfi.iIcon, pt, ILD_TRANSPARENT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绘制图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mageList.Detach();     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释放系统图标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761364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6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297144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Err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Excepti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。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ileExcepti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异常类的一种，用于检测文件操作中可能出现的错误。关于异常类，将在第八章进行详细的介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CFil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if (!f.Open(“D:\\bak\\test.txt”, CFile::modeCreate | CFile::modeWrit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打开与关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880" y="990720"/>
            <a:ext cx="8153280" cy="1828800"/>
            <a:chOff x="380880" y="990720"/>
            <a:chExt cx="8153280" cy="1828800"/>
          </a:xfrm>
        </p:grpSpPr>
        <p:grpSp>
          <p:nvGrpSpPr>
            <p:cNvPr id="55" name=""/>
            <p:cNvGrpSpPr/>
            <p:nvPr/>
          </p:nvGrpSpPr>
          <p:grpSpPr>
            <a:xfrm>
              <a:off x="387720" y="993600"/>
              <a:ext cx="8138160" cy="1822680"/>
              <a:chOff x="387720" y="993600"/>
              <a:chExt cx="8138160" cy="182268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387720" y="993600"/>
                <a:ext cx="2109240" cy="432360"/>
                <a:chOff x="387720" y="993600"/>
                <a:chExt cx="2109240" cy="43236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490320" y="993600"/>
                  <a:ext cx="1904040" cy="43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Perr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87720" y="993600"/>
                  <a:ext cx="2109240" cy="43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2497320" y="993600"/>
                <a:ext cx="2109240" cy="432360"/>
                <a:chOff x="2497320" y="993600"/>
                <a:chExt cx="2109240" cy="43236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599920" y="993600"/>
                  <a:ext cx="1904040" cy="43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返回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497320" y="993600"/>
                  <a:ext cx="2109240" cy="43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4607280" y="993600"/>
                <a:ext cx="2073600" cy="432360"/>
                <a:chOff x="4607280" y="993600"/>
                <a:chExt cx="2073600" cy="4323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709880" y="993600"/>
                  <a:ext cx="1868400" cy="43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调用是否成功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607280" y="993600"/>
                  <a:ext cx="2073600" cy="43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6681240" y="993600"/>
                <a:ext cx="1844640" cy="432360"/>
                <a:chOff x="6681240" y="993600"/>
                <a:chExt cx="1844640" cy="4323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6783840" y="993600"/>
                  <a:ext cx="1639440" cy="43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异常类的设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681240" y="993600"/>
                  <a:ext cx="1844640" cy="43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87720" y="1425960"/>
                <a:ext cx="2109240" cy="319320"/>
                <a:chOff x="387720" y="1425960"/>
                <a:chExt cx="2109240" cy="319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90320" y="1425960"/>
                  <a:ext cx="19040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UL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87720" y="1425960"/>
                  <a:ext cx="210924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2497320" y="1425960"/>
                <a:ext cx="2109240" cy="319320"/>
                <a:chOff x="2497320" y="1425960"/>
                <a:chExt cx="2109240" cy="3193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599920" y="1425960"/>
                  <a:ext cx="19040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ru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497320" y="1425960"/>
                  <a:ext cx="210924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607280" y="1425960"/>
                <a:ext cx="2073600" cy="319320"/>
                <a:chOff x="4607280" y="1425960"/>
                <a:chExt cx="2073600" cy="3193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709880" y="1425960"/>
                  <a:ext cx="18684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607280" y="1425960"/>
                  <a:ext cx="207360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6681240" y="1425960"/>
                <a:ext cx="1844640" cy="319320"/>
                <a:chOff x="6681240" y="1425960"/>
                <a:chExt cx="1844640" cy="3193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783840" y="1425960"/>
                  <a:ext cx="16394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681240" y="1425960"/>
                  <a:ext cx="184464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387720" y="1745280"/>
                <a:ext cx="2109240" cy="318960"/>
                <a:chOff x="387720" y="1745280"/>
                <a:chExt cx="2109240" cy="3189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490320" y="1745280"/>
                  <a:ext cx="19040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UL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87720" y="1745280"/>
                  <a:ext cx="210924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497320" y="1745280"/>
                <a:ext cx="2109240" cy="318960"/>
                <a:chOff x="2497320" y="1745280"/>
                <a:chExt cx="2109240" cy="3189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599920" y="1745280"/>
                  <a:ext cx="19040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97320" y="1745280"/>
                  <a:ext cx="210924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607280" y="1745280"/>
                <a:ext cx="2073600" cy="318960"/>
                <a:chOff x="4607280" y="1745280"/>
                <a:chExt cx="2073600" cy="3189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709880" y="1745280"/>
                  <a:ext cx="18684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607280" y="1745280"/>
                  <a:ext cx="20736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681240" y="1745280"/>
                <a:ext cx="1844640" cy="318960"/>
                <a:chOff x="6681240" y="1745280"/>
                <a:chExt cx="1844640" cy="3189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783840" y="1745280"/>
                  <a:ext cx="1639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681240" y="1745280"/>
                  <a:ext cx="184464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87720" y="2064600"/>
                <a:ext cx="2109240" cy="318960"/>
                <a:chOff x="387720" y="2064600"/>
                <a:chExt cx="2109240" cy="3189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90320" y="2064600"/>
                  <a:ext cx="19040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CFileExcep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87720" y="2064600"/>
                  <a:ext cx="210924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497320" y="2064600"/>
                <a:ext cx="2109240" cy="318960"/>
                <a:chOff x="2497320" y="2064600"/>
                <a:chExt cx="2109240" cy="3189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599920" y="2064600"/>
                  <a:ext cx="19040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ru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97320" y="2064600"/>
                  <a:ext cx="210924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607280" y="2064600"/>
                <a:ext cx="2073600" cy="318960"/>
                <a:chOff x="4607280" y="2064600"/>
                <a:chExt cx="2073600" cy="3189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709880" y="2064600"/>
                  <a:ext cx="18684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607280" y="2064600"/>
                  <a:ext cx="20736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6681240" y="2064600"/>
                <a:ext cx="1844640" cy="318960"/>
                <a:chOff x="6681240" y="2064600"/>
                <a:chExt cx="1844640" cy="318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6783840" y="2064600"/>
                  <a:ext cx="1639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没有变化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681240" y="2064600"/>
                  <a:ext cx="184464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87720" y="2383560"/>
                <a:ext cx="2109240" cy="432720"/>
                <a:chOff x="387720" y="2383560"/>
                <a:chExt cx="2109240" cy="4327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90320" y="2383560"/>
                  <a:ext cx="1904040" cy="43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CFileExcep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87720" y="2383560"/>
                  <a:ext cx="2109240" cy="43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2497320" y="2383560"/>
                <a:ext cx="2109240" cy="432720"/>
                <a:chOff x="2497320" y="2383560"/>
                <a:chExt cx="2109240" cy="4327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599920" y="2383560"/>
                  <a:ext cx="1904040" cy="43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al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497320" y="2383560"/>
                  <a:ext cx="2109240" cy="43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607280" y="2383560"/>
                <a:ext cx="2073600" cy="432720"/>
                <a:chOff x="4607280" y="2383560"/>
                <a:chExt cx="2073600" cy="432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709880" y="2383560"/>
                  <a:ext cx="1868400" cy="43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607280" y="2383560"/>
                  <a:ext cx="2073600" cy="43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681240" y="2383560"/>
                <a:ext cx="1844640" cy="432720"/>
                <a:chOff x="6681240" y="2383560"/>
                <a:chExt cx="1844640" cy="4327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783840" y="2383560"/>
                  <a:ext cx="1639440" cy="43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置入错误信息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681240" y="2383560"/>
                  <a:ext cx="1844640" cy="43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" name=""/>
            <p:cNvSpPr/>
            <p:nvPr/>
          </p:nvSpPr>
          <p:spPr>
            <a:xfrm>
              <a:off x="380880" y="990720"/>
              <a:ext cx="8153280" cy="1828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用于打开文件的构造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CFil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LPCTSTR lpszFileName, UINT nOpenFlags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throw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（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CFileException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File 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:\\bak\\test.txt”, Cfile::modeR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注意：构造函数没有返回值，当打开文件出错时只是产生一个异常。所以不能象函数那样通过分支语句来保证文件已打开，而应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RY/CA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宏来判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CString   strFileName = “D:\\bak\\test.txt”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CFile f(strFileName,CFile::modeCreate | CFile::modeWrit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CATCH(CfileException  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#ifdef_DEBUG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afxDump&lt;&lt;″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文件不能打开！″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&lt;&lt;e-&gt;m_cause&lt;&lt;″\n″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}END_C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打开与关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成员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void Clos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用于关闭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打开的文件。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打开文件后，应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o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释放文件句柄及缓冲区的资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文件和关闭文件的例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CFil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if  (!f.Open(“D:\\bak\test.txt”, CFile::modeRead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MessageBox(“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打开文件失败！”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return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f.Clos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打开与关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读写函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virtual UINT Read (void* lpBuf,  UINT nCount) ;  throw(CFileExcep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返回值是传输到缓冲区的字节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lpBuf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用户提供的缓冲区以接收从文件中读取的数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nCount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可以从文件中读出字节数的最大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注意：对所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F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，如果到达文件尾，则返回值可能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Cou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virtual void Write(const void* lpBuf, UINT nCount);    throw (CFileExcep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参数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参数类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lpBuf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用户提供的缓冲区，包含将写入文件中的数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nCount</a:t>
            </a:r>
            <a:r>
              <a:rPr b="0" lang="zh-CN" sz="20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缓冲区内传输的字节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几种情况下均产生异常，包括磁盘满的情况、磁盘为写保护状态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F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并没有提供类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之类的文件结束标志，所以文件的结束是根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返回值来判断的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返回的是实际读出的字符数，当返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则表示文件已读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的读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读写例题（文件复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09480"/>
            <a:ext cx="8686800" cy="103392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opy(CString strSource, CString str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 fSource, fTarg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[4096];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4k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字节的缓冲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Coun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打开文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 (!fSource.Open(strSource, CFile::modeRead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“Open Source File Fail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 (!fTarget.Open(strTarget, CFile::modeCreate | CFile::modeWrite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“Create Target File Fail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Source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文件到缓冲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Count = fSource.Read(c, 4096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 (n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Target.Write(c, nCou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Count = fSource.Read(c, 4096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Source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Target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件读写例题（文件复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609480"/>
            <a:ext cx="8686800" cy="125618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struct tegStu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t nC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har sName[1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t nAg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 STUDENT, * LPSTUDE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opy(CString strSource, CString strTarg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 fSource, fTarg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变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STUDENT  s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Coun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打开文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 (!fSource.Open(strSource, CFile::modeRead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“Open Source File Fail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 (!fTarget.Open(strTarget, CFile::modeCreate | CFile::modeWrite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“Create Target File Fail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Source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读文件到缓冲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Count = fSource.Read(s, sizeof(STUDE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while (nCou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fTarget.Write(s, sizeof(STUDE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nCount = fSource.Read(s, sizeof(STUDE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Source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Target.Clos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8:31:54Z</dcterms:created>
  <dc:creator>YangGuoxing</dc:creator>
  <dc:description/>
  <dc:language>en-US</dc:language>
  <cp:lastModifiedBy>YangGuoxing</cp:lastModifiedBy>
  <dcterms:modified xsi:type="dcterms:W3CDTF">2001-08-27T01:22:44Z</dcterms:modified>
  <cp:revision>257</cp:revision>
  <dc:subject/>
  <dc:title>第四章   菜单、快捷键和控制条 </dc:title>
</cp:coreProperties>
</file>